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12.png" ContentType="image/png"/>
  <Override PartName="/ppt/media/image4.png" ContentType="image/png"/>
  <Override PartName="/ppt/media/image5.gif" ContentType="image/gif"/>
  <Override PartName="/ppt/media/image10.gif" ContentType="image/gif"/>
  <Override PartName="/ppt/media/image6.png" ContentType="image/png"/>
  <Override PartName="/ppt/media/image7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1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5B23-C754-42E6-A89A-CE2F6321DA25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98AD-DEFA-44A9-A607-348BF5E897A5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4E7E-82A8-4B35-8491-C3389D0B5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F6FC-E8A7-4246-A6BD-B2C2B8CA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B72B-7E19-407B-8003-07B6AC731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56C0-9B1A-4472-9B46-F1DC3BF21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63C6-EB1F-4B3C-8623-2C3060B0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E599-70EE-4DE8-A6C8-CA78E65A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BFF7-D56B-4856-9494-312D8C46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8C65-1D2D-4B20-B458-6DC8FC0B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A623-46F1-4C7E-8AE8-D717C13A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76E9-645C-430B-9CB1-06142426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505C-5E8C-49BA-9EF0-5561C513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DEA6-C111-4B60-A064-2D40A726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57A8-F3DA-492B-A695-D65EBEBD87A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10"/>
          <p:cNvSpPr txBox="1"/>
          <p:nvPr/>
        </p:nvSpPr>
        <p:spPr>
          <a:xfrm>
            <a:off x="324000" y="428760"/>
            <a:ext cx="8496000" cy="10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Rounded MT Bold"/>
              </a:rPr>
              <a:t>PRESENT CONTINUOUS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49" name="Rectângulo 7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ângulo 8"/>
          <p:cNvSpPr/>
          <p:nvPr/>
        </p:nvSpPr>
        <p:spPr>
          <a:xfrm>
            <a:off x="0" y="285840"/>
            <a:ext cx="28584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ângulo 9"/>
          <p:cNvSpPr/>
          <p:nvPr/>
        </p:nvSpPr>
        <p:spPr>
          <a:xfrm>
            <a:off x="285840" y="6643800"/>
            <a:ext cx="885816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ângulo 10"/>
          <p:cNvSpPr/>
          <p:nvPr/>
        </p:nvSpPr>
        <p:spPr>
          <a:xfrm>
            <a:off x="8929800" y="285840"/>
            <a:ext cx="214200" cy="63579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aixaDeTexto 11"/>
          <p:cNvSpPr/>
          <p:nvPr/>
        </p:nvSpPr>
        <p:spPr>
          <a:xfrm>
            <a:off x="2340000" y="2492280"/>
            <a:ext cx="51354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1700" spc="-1" strike="noStrike" u="sng">
                <a:solidFill>
                  <a:srgbClr val="ff0066"/>
                </a:solidFill>
                <a:uFillTx/>
                <a:latin typeface="Berlin Sans FB Demi"/>
              </a:rPr>
              <a:t>GAME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aixaDeTexto 12"/>
          <p:cNvSpPr/>
          <p:nvPr/>
        </p:nvSpPr>
        <p:spPr>
          <a:xfrm>
            <a:off x="4211640" y="429264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Berlin Sans FB Demi"/>
              </a:rPr>
              <a:t>Choose the right option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0066"/>
                </a:solidFill>
                <a:latin typeface="Forte"/>
                <a:ea typeface="宋体"/>
              </a:rPr>
              <a:t>He is…a hors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324000" y="5661000"/>
            <a:ext cx="27860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3276720" y="5661000"/>
            <a:ext cx="273672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6156360" y="566100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10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151" name="Picture 11" descr="ARROW TO RIGHT">
            <a:hlinkClick r:id="" action="ppaction://hlinkshowjump?jump=nextslide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812000" y="2060640"/>
            <a:ext cx="760680" cy="528480"/>
          </a:xfrm>
          <a:prstGeom prst="rect">
            <a:avLst/>
          </a:prstGeom>
          <a:ln w="0">
            <a:noFill/>
          </a:ln>
        </p:spPr>
      </p:pic>
      <p:sp>
        <p:nvSpPr>
          <p:cNvPr id="152" name="Rectângulo 9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ângulo 10"/>
          <p:cNvSpPr/>
          <p:nvPr/>
        </p:nvSpPr>
        <p:spPr>
          <a:xfrm>
            <a:off x="0" y="214200"/>
            <a:ext cx="214200" cy="664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ângulo 12"/>
          <p:cNvSpPr/>
          <p:nvPr/>
        </p:nvSpPr>
        <p:spPr>
          <a:xfrm>
            <a:off x="8929800" y="214200"/>
            <a:ext cx="214200" cy="64296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Imagem 15" descr="hipismo08.gif"/>
          <p:cNvPicPr/>
          <p:nvPr/>
        </p:nvPicPr>
        <p:blipFill>
          <a:blip r:embed="rId3"/>
          <a:stretch/>
        </p:blipFill>
        <p:spPr>
          <a:xfrm>
            <a:off x="468360" y="2565360"/>
            <a:ext cx="3382920" cy="27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ângulo 10"/>
          <p:cNvSpPr/>
          <p:nvPr/>
        </p:nvSpPr>
        <p:spPr>
          <a:xfrm>
            <a:off x="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ângulo 12"/>
          <p:cNvSpPr/>
          <p:nvPr/>
        </p:nvSpPr>
        <p:spPr>
          <a:xfrm>
            <a:off x="892980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ângulo 16"/>
          <p:cNvSpPr/>
          <p:nvPr/>
        </p:nvSpPr>
        <p:spPr>
          <a:xfrm>
            <a:off x="539640" y="3716280"/>
            <a:ext cx="820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0" spc="-1" strike="noStrike">
                <a:solidFill>
                  <a:srgbClr val="ffff99"/>
                </a:solidFill>
                <a:latin typeface="Berlin Sans FB Demi"/>
              </a:rPr>
              <a:t>    </a:t>
            </a:r>
            <a:r>
              <a:rPr b="1" lang="pt-PT" sz="8800" spc="-1" strike="noStrike" u="sng">
                <a:solidFill>
                  <a:srgbClr val="0000ff"/>
                </a:solidFill>
                <a:uFillTx/>
                <a:latin typeface="Berlin Sans FB Demi"/>
              </a:rPr>
              <a:t>Great work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ângulo 6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0066"/>
                </a:solidFill>
                <a:latin typeface="Forte"/>
                <a:ea typeface="宋体"/>
              </a:rPr>
              <a:t>He is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AutoShape 7"/>
          <p:cNvSpPr/>
          <p:nvPr/>
        </p:nvSpPr>
        <p:spPr>
          <a:xfrm>
            <a:off x="324000" y="5661000"/>
            <a:ext cx="27860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um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3276720" y="5661000"/>
            <a:ext cx="273672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l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6156360" y="566100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10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60" name="Picture 11" descr="ARROW TO RIGHT">
            <a:hlinkClick r:id="" action="ppaction://hlinkshowjump?jump=nextslide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812000" y="2133720"/>
            <a:ext cx="760680" cy="528480"/>
          </a:xfrm>
          <a:prstGeom prst="rect">
            <a:avLst/>
          </a:prstGeom>
          <a:ln w="0">
            <a:noFill/>
          </a:ln>
        </p:spPr>
      </p:pic>
      <p:sp>
        <p:nvSpPr>
          <p:cNvPr id="61" name="Rectângulo 9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ângulo 10"/>
          <p:cNvSpPr/>
          <p:nvPr/>
        </p:nvSpPr>
        <p:spPr>
          <a:xfrm>
            <a:off x="0" y="214200"/>
            <a:ext cx="214200" cy="664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ângulo 12"/>
          <p:cNvSpPr/>
          <p:nvPr/>
        </p:nvSpPr>
        <p:spPr>
          <a:xfrm>
            <a:off x="8929800" y="214200"/>
            <a:ext cx="214200" cy="64296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Imagem 14" descr="4.gif"/>
          <p:cNvPicPr/>
          <p:nvPr/>
        </p:nvPicPr>
        <p:blipFill>
          <a:blip r:embed="rId3"/>
          <a:stretch/>
        </p:blipFill>
        <p:spPr>
          <a:xfrm>
            <a:off x="4716360" y="2349360"/>
            <a:ext cx="1800360" cy="28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0066"/>
                </a:solidFill>
                <a:latin typeface="Forte"/>
                <a:ea typeface="宋体"/>
              </a:rPr>
              <a:t>They are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3214800" y="5572080"/>
            <a:ext cx="26524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ying 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250920" y="5572080"/>
            <a:ext cx="28810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a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6000840" y="557208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7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71" name="Picture 8" descr="ARROW TO RIGHT">
            <a:hlinkClick r:id="" action="ppaction://hlinkshowjump?jump=nextslide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885080" y="2133720"/>
            <a:ext cx="696960" cy="485640"/>
          </a:xfrm>
          <a:prstGeom prst="rect">
            <a:avLst/>
          </a:prstGeom>
          <a:ln w="0">
            <a:noFill/>
          </a:ln>
        </p:spPr>
      </p:pic>
      <p:sp>
        <p:nvSpPr>
          <p:cNvPr id="72" name="Rectângulo 9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ângulo 10"/>
          <p:cNvSpPr/>
          <p:nvPr/>
        </p:nvSpPr>
        <p:spPr>
          <a:xfrm>
            <a:off x="0" y="214200"/>
            <a:ext cx="214200" cy="664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ângulo 11"/>
          <p:cNvSpPr/>
          <p:nvPr/>
        </p:nvSpPr>
        <p:spPr>
          <a:xfrm>
            <a:off x="142920" y="6572160"/>
            <a:ext cx="9001080" cy="2858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ângulo 12"/>
          <p:cNvSpPr/>
          <p:nvPr/>
        </p:nvSpPr>
        <p:spPr>
          <a:xfrm>
            <a:off x="8929800" y="214200"/>
            <a:ext cx="214200" cy="664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Imagem 14" descr="006.gif"/>
          <p:cNvPicPr/>
          <p:nvPr/>
        </p:nvPicPr>
        <p:blipFill>
          <a:blip r:embed="rId3"/>
          <a:stretch/>
        </p:blipFill>
        <p:spPr>
          <a:xfrm>
            <a:off x="2987640" y="3213000"/>
            <a:ext cx="3892680" cy="232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0066"/>
                </a:solidFill>
                <a:latin typeface="Forte"/>
                <a:ea typeface="宋体"/>
              </a:rPr>
              <a:t>He is 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3"/>
          <p:cNvSpPr/>
          <p:nvPr/>
        </p:nvSpPr>
        <p:spPr>
          <a:xfrm>
            <a:off x="6156360" y="5589720"/>
            <a:ext cx="27496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mi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3132000" y="5589720"/>
            <a:ext cx="28576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"/>
          <p:cNvSpPr/>
          <p:nvPr/>
        </p:nvSpPr>
        <p:spPr>
          <a:xfrm>
            <a:off x="285840" y="557208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ug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82" name="Picture 7" descr="ARROW TO RIGHT">
            <a:hlinkClick r:id="" action="ppaction://hlinkshowjump?jump=nextslide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885080" y="2060640"/>
            <a:ext cx="749160" cy="522360"/>
          </a:xfrm>
          <a:prstGeom prst="rect">
            <a:avLst/>
          </a:prstGeom>
          <a:ln w="0">
            <a:noFill/>
          </a:ln>
        </p:spPr>
      </p:pic>
      <p:sp>
        <p:nvSpPr>
          <p:cNvPr id="83" name="Rectângulo 9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ângulo 10"/>
          <p:cNvSpPr/>
          <p:nvPr/>
        </p:nvSpPr>
        <p:spPr>
          <a:xfrm>
            <a:off x="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ângulo 12"/>
          <p:cNvSpPr/>
          <p:nvPr/>
        </p:nvSpPr>
        <p:spPr>
          <a:xfrm>
            <a:off x="892980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Imagem 15" descr="a272.gif"/>
          <p:cNvPicPr/>
          <p:nvPr/>
        </p:nvPicPr>
        <p:blipFill>
          <a:blip r:embed="rId3"/>
          <a:stretch/>
        </p:blipFill>
        <p:spPr>
          <a:xfrm>
            <a:off x="4643280" y="3156120"/>
            <a:ext cx="2232360" cy="245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0066"/>
                </a:solidFill>
                <a:latin typeface="Forte"/>
                <a:ea typeface="宋体"/>
              </a:rPr>
              <a:t>They are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AutoShape 3"/>
          <p:cNvSpPr/>
          <p:nvPr/>
        </p:nvSpPr>
        <p:spPr>
          <a:xfrm>
            <a:off x="3276720" y="5661000"/>
            <a:ext cx="259236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6072120" y="5643720"/>
            <a:ext cx="27370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428760" y="564372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93" name="Picture 7" descr="ARROW TO RIGHT">
            <a:hlinkClick r:id="" action="ppaction://hlinkshowjump?jump=nextslide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740720" y="2060640"/>
            <a:ext cx="857160" cy="595080"/>
          </a:xfrm>
          <a:prstGeom prst="rect">
            <a:avLst/>
          </a:prstGeom>
          <a:ln w="0">
            <a:noFill/>
          </a:ln>
        </p:spPr>
      </p:pic>
      <p:sp>
        <p:nvSpPr>
          <p:cNvPr id="94" name="Rectângulo 9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ângulo 10"/>
          <p:cNvSpPr/>
          <p:nvPr/>
        </p:nvSpPr>
        <p:spPr>
          <a:xfrm>
            <a:off x="0" y="214200"/>
            <a:ext cx="285840" cy="664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ângulo 11"/>
          <p:cNvSpPr/>
          <p:nvPr/>
        </p:nvSpPr>
        <p:spPr>
          <a:xfrm>
            <a:off x="285840" y="6643800"/>
            <a:ext cx="885816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ângulo 12"/>
          <p:cNvSpPr/>
          <p:nvPr/>
        </p:nvSpPr>
        <p:spPr>
          <a:xfrm>
            <a:off x="8929800" y="214200"/>
            <a:ext cx="214200" cy="664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Imagem 15" descr="dancer066.gif"/>
          <p:cNvPicPr/>
          <p:nvPr/>
        </p:nvPicPr>
        <p:blipFill>
          <a:blip r:embed="rId3"/>
          <a:stretch/>
        </p:blipFill>
        <p:spPr>
          <a:xfrm>
            <a:off x="892080" y="1989000"/>
            <a:ext cx="2579760" cy="28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0066"/>
                </a:solidFill>
                <a:latin typeface="Forte"/>
                <a:ea typeface="宋体"/>
              </a:rPr>
              <a:t>He is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AutoShape 3"/>
          <p:cNvSpPr/>
          <p:nvPr/>
        </p:nvSpPr>
        <p:spPr>
          <a:xfrm>
            <a:off x="6143760" y="5500800"/>
            <a:ext cx="259236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285840" y="5500800"/>
            <a:ext cx="273672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3203640" y="5516640"/>
            <a:ext cx="27716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6"/>
          <p:cNvSpPr txBox="1"/>
          <p:nvPr/>
        </p:nvSpPr>
        <p:spPr>
          <a:xfrm>
            <a:off x="5219640" y="98100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104" name="Picture 7" descr="ARROW TO RIGHT">
            <a:hlinkClick r:id="" action="ppaction://hlinkshowjump?jump=nextslide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812000" y="2133720"/>
            <a:ext cx="749520" cy="522000"/>
          </a:xfrm>
          <a:prstGeom prst="rect">
            <a:avLst/>
          </a:prstGeom>
          <a:ln w="0">
            <a:noFill/>
          </a:ln>
        </p:spPr>
      </p:pic>
      <p:sp>
        <p:nvSpPr>
          <p:cNvPr id="105" name="Rectângulo 9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ângulo 10"/>
          <p:cNvSpPr/>
          <p:nvPr/>
        </p:nvSpPr>
        <p:spPr>
          <a:xfrm>
            <a:off x="0" y="214200"/>
            <a:ext cx="214200" cy="6643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ângulo 12"/>
          <p:cNvSpPr/>
          <p:nvPr/>
        </p:nvSpPr>
        <p:spPr>
          <a:xfrm>
            <a:off x="8929800" y="214200"/>
            <a:ext cx="214200" cy="64296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Imagem 14" descr="afeed3.gif"/>
          <p:cNvPicPr/>
          <p:nvPr/>
        </p:nvPicPr>
        <p:blipFill>
          <a:blip r:embed="rId3"/>
          <a:stretch/>
        </p:blipFill>
        <p:spPr>
          <a:xfrm>
            <a:off x="1258920" y="2133720"/>
            <a:ext cx="2521080" cy="280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0066"/>
                </a:solidFill>
                <a:latin typeface="Forte"/>
                <a:ea typeface="宋体"/>
              </a:rPr>
              <a:t>The birds are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AutoShape 3"/>
          <p:cNvSpPr/>
          <p:nvPr/>
        </p:nvSpPr>
        <p:spPr>
          <a:xfrm>
            <a:off x="6084720" y="5589720"/>
            <a:ext cx="27496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3143160" y="5572080"/>
            <a:ext cx="28576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285840" y="557208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115" name="Picture 7" descr="ARROW TO RIGHT">
            <a:hlinkClick r:id="" action="ppaction://hlinkshowjump?jump=nextslide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740720" y="2133720"/>
            <a:ext cx="749160" cy="522000"/>
          </a:xfrm>
          <a:prstGeom prst="rect">
            <a:avLst/>
          </a:prstGeom>
          <a:ln w="0">
            <a:noFill/>
          </a:ln>
        </p:spPr>
      </p:pic>
      <p:sp>
        <p:nvSpPr>
          <p:cNvPr id="116" name="Rectângulo 9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ângulo 10"/>
          <p:cNvSpPr/>
          <p:nvPr/>
        </p:nvSpPr>
        <p:spPr>
          <a:xfrm>
            <a:off x="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ângulo 12"/>
          <p:cNvSpPr/>
          <p:nvPr/>
        </p:nvSpPr>
        <p:spPr>
          <a:xfrm>
            <a:off x="892980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upo 18"/>
          <p:cNvGrpSpPr/>
          <p:nvPr/>
        </p:nvGrpSpPr>
        <p:grpSpPr>
          <a:xfrm>
            <a:off x="324000" y="1989000"/>
            <a:ext cx="3328920" cy="1800360"/>
            <a:chOff x="324000" y="1989000"/>
            <a:chExt cx="3328920" cy="1800360"/>
          </a:xfrm>
        </p:grpSpPr>
        <p:pic>
          <p:nvPicPr>
            <p:cNvPr id="121" name="Imagem 15" descr="animalani17.gif"/>
            <p:cNvPicPr/>
            <p:nvPr/>
          </p:nvPicPr>
          <p:blipFill>
            <a:blip r:embed="rId3"/>
            <a:stretch/>
          </p:blipFill>
          <p:spPr>
            <a:xfrm>
              <a:off x="1116000" y="1989000"/>
              <a:ext cx="2032920" cy="108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Imagem 16" descr="animalani17.gif"/>
            <p:cNvPicPr/>
            <p:nvPr/>
          </p:nvPicPr>
          <p:blipFill>
            <a:blip r:embed="rId4"/>
            <a:stretch/>
          </p:blipFill>
          <p:spPr>
            <a:xfrm>
              <a:off x="324000" y="2565000"/>
              <a:ext cx="2032920" cy="108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Imagem 17" descr="animalani17.gif"/>
            <p:cNvPicPr/>
            <p:nvPr/>
          </p:nvPicPr>
          <p:blipFill>
            <a:blip r:embed="rId5"/>
            <a:stretch/>
          </p:blipFill>
          <p:spPr>
            <a:xfrm>
              <a:off x="1620000" y="2709000"/>
              <a:ext cx="2032920" cy="1080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0066"/>
                </a:solidFill>
                <a:latin typeface="Forte"/>
                <a:ea typeface="宋体"/>
              </a:rPr>
              <a:t>The dog is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3132000" y="5589720"/>
            <a:ext cx="259236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l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5929200" y="5572080"/>
            <a:ext cx="27370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324000" y="558972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x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129" name="Picture 7" descr="ARROW TO RIGHT">
            <a:hlinkClick r:id="" action="ppaction://hlinkshowjump?jump=nextslide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667640" y="1989000"/>
            <a:ext cx="896760" cy="623880"/>
          </a:xfrm>
          <a:prstGeom prst="rect">
            <a:avLst/>
          </a:prstGeom>
          <a:ln w="0">
            <a:noFill/>
          </a:ln>
        </p:spPr>
      </p:pic>
      <p:sp>
        <p:nvSpPr>
          <p:cNvPr id="130" name="Rectângulo 9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ângulo 10"/>
          <p:cNvSpPr/>
          <p:nvPr/>
        </p:nvSpPr>
        <p:spPr>
          <a:xfrm>
            <a:off x="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ângulo 12"/>
          <p:cNvSpPr/>
          <p:nvPr/>
        </p:nvSpPr>
        <p:spPr>
          <a:xfrm>
            <a:off x="892980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Imagem 14" descr="animalani105.gif"/>
          <p:cNvPicPr/>
          <p:nvPr/>
        </p:nvPicPr>
        <p:blipFill>
          <a:blip r:embed="rId3"/>
          <a:stretch/>
        </p:blipFill>
        <p:spPr>
          <a:xfrm>
            <a:off x="2556000" y="3429000"/>
            <a:ext cx="4025880" cy="199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0066"/>
                </a:solidFill>
                <a:latin typeface="Forte"/>
                <a:ea typeface="宋体"/>
              </a:rPr>
              <a:t>He is…a bik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3132000" y="5589720"/>
            <a:ext cx="259236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um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5929200" y="5572080"/>
            <a:ext cx="27370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324000" y="558972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140" name="Picture 7" descr="ARROW TO RIGHT">
            <a:hlinkClick r:id="" action="ppaction://hlinkshowjump?jump=nextslide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596360" y="2060640"/>
            <a:ext cx="896760" cy="623880"/>
          </a:xfrm>
          <a:prstGeom prst="rect">
            <a:avLst/>
          </a:prstGeom>
          <a:ln w="0">
            <a:noFill/>
          </a:ln>
        </p:spPr>
      </p:pic>
      <p:sp>
        <p:nvSpPr>
          <p:cNvPr id="141" name="Rectângulo 9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ângulo 10"/>
          <p:cNvSpPr/>
          <p:nvPr/>
        </p:nvSpPr>
        <p:spPr>
          <a:xfrm>
            <a:off x="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ângulo 12"/>
          <p:cNvSpPr/>
          <p:nvPr/>
        </p:nvSpPr>
        <p:spPr>
          <a:xfrm>
            <a:off x="8929800" y="285840"/>
            <a:ext cx="214200" cy="6572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Imagem 15" descr="ciclista07.gif"/>
          <p:cNvPicPr/>
          <p:nvPr/>
        </p:nvPicPr>
        <p:blipFill>
          <a:blip r:embed="rId3"/>
          <a:stretch/>
        </p:blipFill>
        <p:spPr>
          <a:xfrm>
            <a:off x="4572000" y="2924280"/>
            <a:ext cx="3227400" cy="257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01:56:19Z</dcterms:created>
  <dc:creator>Maria</dc:creator>
  <dc:description/>
  <dc:language>en-US</dc:language>
  <cp:lastModifiedBy>微软中国</cp:lastModifiedBy>
  <dcterms:modified xsi:type="dcterms:W3CDTF">2013-05-19T05:17:26Z</dcterms:modified>
  <cp:revision>151</cp:revision>
  <dc:subject/>
  <dc:title>幻灯片 1</dc:title>
</cp:coreProperties>
</file>